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E4F-2127-43FF-AFD5-1E0B574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607-4D47-4234-84E5-0FBFE52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6E7-1BD8-4E91-8CB8-0C1DBE24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089-BBC8-4469-AD67-59E1C6B3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5A5-154F-4F40-A9B2-B0933D0F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D0E-059C-4B87-A514-23859960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FFB-6FA1-4B6C-82CA-65734DE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597-0C4A-43B7-A129-3C21914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AA1-43C4-46B7-A333-B94CC249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0D3-FEF8-4D1B-B819-BB9BE1C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948-1345-49AC-95A6-65555C8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578-853C-47C4-8F94-4858F00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C86E-7D24-4D40-A1DB-CC9DD2E0EDCE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M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Picture 6" descr="Course_CMS_image"/>
          <p:cNvPicPr/>
          <p:nvPr/>
        </p:nvPicPr>
        <p:blipFill>
          <a:blip r:embed="rId1"/>
          <a:stretch/>
        </p:blipFill>
        <p:spPr>
          <a:xfrm>
            <a:off x="3143160" y="2433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Print M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Print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xamples of Global Print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ime magaz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Newswe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National Geo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Vogue, Cosmopolitan (fashion magazi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squire (men’s magaz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O (Oprah’s magaz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BBC Gardeners’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layb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omani-media"/>
          <p:cNvPicPr/>
          <p:nvPr/>
        </p:nvPicPr>
        <p:blipFill>
          <a:blip r:embed="rId1"/>
          <a:stretch/>
        </p:blipFill>
        <p:spPr>
          <a:xfrm>
            <a:off x="4648320" y="2068560"/>
            <a:ext cx="40384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V and radio commerci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Print advertis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Electronic billboar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Public building and road pos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Internet adverti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E.g. Website ban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pam (e-mai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bile phone instant messag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Most of the world’s media are run by 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ggressive advertisng campaigns are run world-wide by major international corporations (Microsoft, Nike, Coca Cola, McDonalds, Kellogg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from_madisonboom_com"/>
          <p:cNvPicPr/>
          <p:nvPr/>
        </p:nvPicPr>
        <p:blipFill>
          <a:blip r:embed="rId1"/>
          <a:stretch/>
        </p:blipFill>
        <p:spPr>
          <a:xfrm>
            <a:off x="5143680" y="160020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e3ebf1"/>
                </a:solidFill>
                <a:latin typeface="Arial"/>
              </a:rPr>
              <a:t>Global Media – A Source of Variety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Not really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edia broadcasting around the world looks pretty much the same everyw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V – adopting similar form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V-series, films, weather reports, morning news, weather reports, soap operas, reality-TV series, game-shows are the same or pretty much the same world-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V-companies world-wide copy or buy programmes that are popular from one an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cal TV-stations buy programmes from media giants like BBC, Time Warner and Disn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Films made in Hollywood are bought by local cinemas around the world or downloaded legally or illegally from the Internet or watched on cable-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As a result of economic factors and consumer demands, few TV-shows are produced local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1" descr="SCX-6320F_R45_B"/>
          <p:cNvPicPr/>
          <p:nvPr/>
        </p:nvPicPr>
        <p:blipFill>
          <a:blip r:embed="rId1"/>
          <a:stretch/>
        </p:blipFill>
        <p:spPr>
          <a:xfrm>
            <a:off x="4765680" y="2033640"/>
            <a:ext cx="3803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Effect of Globalized New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uriously Similar – Why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ws are sold by a few, Anglo-American news services like Reuters, United Press International and the Associated Press which have offices around the wor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 networks compete for global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nsationalizing news events and situ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ss emphasis on information, thorough analysis, background information on or causes of wars, disasters, and crisis – more focus on entertai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ying to arouse viewers` and readers` emo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fast from one scandal, hot topic or disaster to another – human tragedies are easily forgot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900" spc="-1" strike="noStrike">
                <a:solidFill>
                  <a:srgbClr val="ffffff"/>
                </a:solidFill>
                <a:latin typeface="Arial"/>
              </a:rPr>
              <a:t>Picture: Reuters in Lond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05reuters_xlarge1"/>
          <p:cNvPicPr/>
          <p:nvPr/>
        </p:nvPicPr>
        <p:blipFill>
          <a:blip r:embed="rId1"/>
          <a:stretch/>
        </p:blipFill>
        <p:spPr>
          <a:xfrm>
            <a:off x="4648320" y="2786040"/>
            <a:ext cx="40384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ultural Influences and Valu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dia decides what is news and what is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t controls the information we have about what is happening in the world and what information we do not have about world ev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t shapes our view of the world – as people do not have much time or opportunity to search for information themsel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re is also a fear among some people that globalized media will do away with cultural differences through TV, advertising, Internet, movie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me fear that local cultures will be replaced by Western or American values – especially those in American TV-se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HomerSimpson48"/>
          <p:cNvPicPr/>
          <p:nvPr/>
        </p:nvPicPr>
        <p:blipFill>
          <a:blip r:embed="rId1"/>
          <a:stretch/>
        </p:blipFill>
        <p:spPr>
          <a:xfrm>
            <a:off x="5264280" y="1600200"/>
            <a:ext cx="280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e3ebf1"/>
                </a:solidFill>
                <a:latin typeface="Arial"/>
              </a:rPr>
              <a:t>By Nina Sandström Angelsen</a:t>
            </a:r>
            <a:endParaRPr b="0" lang="en-US" sz="2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Analyze and evaluate the role of some English-language media in the international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General and specialize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Digital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Film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Critical use of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Global Med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Interconnected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print 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ewspapers, magaz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line News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BC, CNN, Al Jaze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vie Indust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Hollywood, Bollywoo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adio (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world"/>
          <p:cNvPicPr/>
          <p:nvPr/>
        </p:nvPicPr>
        <p:blipFill>
          <a:blip r:embed="rId1"/>
          <a:stretch/>
        </p:blipFill>
        <p:spPr>
          <a:xfrm>
            <a:off x="5105520" y="1600200"/>
            <a:ext cx="3733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e3ebf1"/>
                </a:solidFill>
                <a:latin typeface="Arial"/>
              </a:rPr>
              <a:t>Global Media and the English Language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nglish – A Lingua Fra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 lingua franca – is the language people who speak different native languages use in order to communicate with each other – e.g. French, Spanish, English, Germa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nglish is the lingua franca in the global media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.g it is claimed that 80% of all Internet content is in Engl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800px-English_language_svg"/>
          <p:cNvPicPr/>
          <p:nvPr/>
        </p:nvPicPr>
        <p:blipFill>
          <a:blip r:embed="rId1"/>
          <a:stretch/>
        </p:blipFill>
        <p:spPr>
          <a:xfrm>
            <a:off x="4648320" y="2800440"/>
            <a:ext cx="40384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e3ebf1"/>
                </a:solidFill>
                <a:latin typeface="Arial"/>
              </a:rPr>
              <a:t>Early Media History – The Telegraph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he Telegraph 18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'Victorian Internet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vention of the electric telegraph made rapid communication possible between Europe and America, and between Britain and her distant colonies such as Austral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t was as revolutionary for its time as Internet is for ou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telegraph1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e3ebf1"/>
                </a:solidFill>
                <a:latin typeface="Arial"/>
              </a:rPr>
              <a:t>Early Media History – The Radio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early 20th c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nother rev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roadcasting news, music, entertainment and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Reached masses of peo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Radio"/>
          <p:cNvPicPr/>
          <p:nvPr/>
        </p:nvPicPr>
        <p:blipFill>
          <a:blip r:embed="rId1"/>
          <a:stretch/>
        </p:blipFill>
        <p:spPr>
          <a:xfrm>
            <a:off x="4962600" y="1947960"/>
            <a:ext cx="3409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Early Media History -TV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UK around 19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et another rev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on developed in other parts of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in 3 years USA had a million TV – vi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levision broadcasts were local or regional until the 1980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80s - development of global satellite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TV"/>
          <p:cNvPicPr/>
          <p:nvPr/>
        </p:nvPicPr>
        <p:blipFill>
          <a:blip r:embed="rId1"/>
          <a:stretch/>
        </p:blipFill>
        <p:spPr>
          <a:xfrm>
            <a:off x="4648320" y="2522520"/>
            <a:ext cx="4038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Information Age</a:t>
            </a:r>
            <a:br>
              <a:rPr sz="4400"/>
            </a:br>
            <a:r>
              <a:rPr b="0" lang="nb-NO" sz="2400" spc="-1" strike="noStrike">
                <a:solidFill>
                  <a:srgbClr val="e3ebf1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Developed by US military in the 1970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oftware programs were soon devel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mass communication tool of the 20th centu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t is continually gro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as introduced the Information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nstrumental in bringing the world closer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Internet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e3ebf1"/>
                </a:solidFill>
                <a:latin typeface="Arial"/>
              </a:rPr>
              <a:t>The Power of the Intern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ll the world’s media is available on the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Ra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V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Provides unlimited amount of information, news, entertainment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ttempts at censorship have fail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vailable to everyone with knowledge of and access to Intern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nyone can contribu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lso major source of misinformation and ab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finger_search_button_world"/>
          <p:cNvPicPr/>
          <p:nvPr/>
        </p:nvPicPr>
        <p:blipFill>
          <a:blip r:embed="rId1"/>
          <a:stretch/>
        </p:blipFill>
        <p:spPr>
          <a:xfrm>
            <a:off x="4765680" y="1600200"/>
            <a:ext cx="380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11-30T23:53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